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8E6-5C65-4E2C-8D5A-20B05259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811-9CE7-474C-A620-A18FF3B6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BBC-8D1A-4948-9EA5-6253257D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68A-AFBC-4791-BA3F-12794C09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9ED-054A-446C-9DEE-0B159647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D46-4F32-4030-8EAB-59B91120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C4E-86BD-482C-8C98-F20DC73B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66D-C767-4146-99DF-EFB49D20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CA7-83EE-4119-90D2-D13B3F5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AF1-6EBE-4017-8584-F92CBFD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FB5-6E5F-4C0B-8FF3-7BFEC851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C13-7489-4E0B-AB64-D98F6CF9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EB18-A4B7-4F48-B1D8-B6859DEAF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0492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DAY AT THE 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5562720"/>
            <a:ext cx="3504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ten by Linda Mo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llustrated by Linda Mo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380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 always visit my Grandpa’s pigs when I go to the farm.  I think they like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45720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I feed the chickens every time I go to the farm.  The baby chicks are my favorit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38088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 like to play with the dogs on the farm.  They always run from me when I try to tickl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58:22Z</dcterms:created>
  <dc:creator>Patrick Mooney</dc:creator>
  <dc:description/>
  <dc:language>en-US</dc:language>
  <cp:lastModifiedBy>Patrick Mooney</cp:lastModifiedBy>
  <dcterms:modified xsi:type="dcterms:W3CDTF">2009-02-17T14:36:11Z</dcterms:modified>
  <cp:revision>5</cp:revision>
  <dc:subject/>
  <dc:title>Slide 1</dc:title>
</cp:coreProperties>
</file>